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984-5FF6-41B3-A1AD-3C1A5E8A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238-FC34-4395-B089-3FFAC4BA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A0C70-E04B-4AF2-A78A-980355CC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92087-1712-467A-898B-CD7EEEED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18958-6631-4551-A301-1966F935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320D9-2330-4E73-8638-6116FF2B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386FD-3417-455B-B16C-A904E688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06EC4-4EAC-4318-A245-D7474390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71049-3B33-439E-A01C-B5DEC8C6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F3CFC-7E94-4367-856F-49FDB571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0EA2F-1DA9-49FC-9D6A-C3FE16A6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9F47A-303A-4BE1-A7AD-343EB570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EAA-AF00-416D-890D-EFAC993C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AC04C-A975-4716-AD56-3983E1CF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118FB-EC01-4D43-8F20-B29C7E97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B29DC-DEB6-4F3B-B749-2E7C8329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56A86-1C3A-4DFF-ACF7-C6B46F15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14A9A-F2E8-49C3-BC60-61912135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1C408-D112-4B59-AECE-5B3E7906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5AAB5-C657-43F6-BBF6-DC0AE1B9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8BF44-7281-4F30-9C33-22C2AE48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37F11-A07D-4EB4-BEDE-A4C65541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935BF-C492-40ED-A3CF-A71707DF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DD5-ECA5-45FE-8D58-2B686A5A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E1D96-ED5E-43E0-B683-0C0FC49D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5A452-114B-4786-8202-B22F17E7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AEBC8-EA2A-4177-805F-485910EE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FE8BD-0578-408D-B123-3F5FAB79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E69A0-9DC2-444C-9DBA-69CCA6F4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68C63-31B1-48F2-A982-4F166142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10462-7116-45F7-B0D4-84A54478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13AE7-DA08-43D6-8200-0218615B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1BB15-8806-4E35-BDCC-B90568D7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24C30-1775-48C7-9EC6-E198D76B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EF63-C3B4-417A-8673-D456C76A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66C34-7EF8-4963-922F-73A801DA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BF461-524B-436E-BF72-BDEBE515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B1340-A75E-47F5-9328-673B97AA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6BC6E-546E-4E87-B7B5-19E17014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0A6E6-175B-4B38-BE73-1059C6C6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56391-398F-4A15-8EEA-A8780E21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E789D-FC2B-4442-9B8E-2BCFC457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4021E-E7B1-4C65-A65D-3AB116B4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D8D1A-E888-4F3F-938F-11ED9C88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55DFD-D3DB-48D9-B0FF-1B659A89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1A83-285B-4D51-BB34-DBFE73E1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E7F0A-96AA-4231-9F48-6587EE29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FEEB6-2AC2-4B3D-B5F4-DAC4E865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E8861-920C-4510-B883-00A4CC3D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E8682-B78C-4536-B20C-4BC58961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4647E-0C39-4567-AA99-B25CC7C0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73D39-824D-42E4-8B6C-12D70499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C4108-4205-48E9-A846-6365F440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27BE3-4DED-447B-8598-25880050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80667-9323-46C5-BA9D-1A9066BB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BCC47-E443-4965-9380-FDDE4CAB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A816-00AE-41D7-B808-09E445C1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2EA6E-0D0E-406E-B369-EC1DCEE8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5B9F0-9581-4FCA-833E-8884C14C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4C84D-8D22-43C7-A555-1D736EE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6BE29-6787-4E80-9555-9136DB98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54240-267D-4063-B93B-954446BF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050C2-ACE3-4AD3-A81D-53C1EDFF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4CB18-1FFB-4652-ABF0-F539EAFE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00A8E-43D3-46BC-AC3C-2B93E82E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590C0-7E40-4408-965B-81BFF43F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3EC99-0EA5-4238-9E7E-87D14FC3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8686-1B1F-461E-BF13-3765E681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D7BBA-2849-4593-B87A-DEEABF44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BEA26-024D-439A-8C2D-5D26E5C8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829F8-A40D-4BCB-B18A-5B6DC340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F9612-1DB3-4AB7-8E5F-E62B8730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628F7-741E-4DF1-9CAB-820E046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21005-2424-4D1D-8850-B665E3D8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C07AF-CF29-4438-AF5D-C83D6E4C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A49E20-2EBD-4EBC-A715-014934D9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D63CF-0F18-4FB3-992B-0376E869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F77BF-E53D-4B8D-B3B9-8321E6CA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F213-C293-44ED-9B40-199D99DB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C96A4-8C00-481B-ADFA-3DAEE92B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806C2A-BAB3-422B-863A-A1F528EE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01CF3-F42C-4356-BB80-7AD36602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28356-010E-4363-85D6-64FE686D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AF4BB0-26DB-4922-BDC2-B4C72D2A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52F9C-3341-4148-BB04-2A07296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31C30-B75C-4608-96B3-DD150E37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24A9EF-138E-4D6E-901C-68CFC3AA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A47B0-50DC-4617-964F-578EC5B1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C2781-A002-4AA5-8E03-4D578080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1647-5678-46CA-8429-AEA93A25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994DA9-72B0-4B92-8CA6-98948A5F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68686-BE45-45DE-8B5B-6AB5E05D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ACB656-B6C3-4684-8722-12B48E97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298BC-3579-40EC-B755-D51FF21F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168E3D-0705-4772-8939-1C47D2E0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2B73D-E571-4176-9928-89B14DD2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1B216-B678-4E60-B394-4D8EDAA4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45C65-D06C-4FE5-A8F7-0FBFF127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AA050-CC3F-4318-A4F8-9D3548F6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85767-1CFF-4BC5-AA60-A1B1CA67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B2B8-9EBC-4A41-8FB8-AAEAE4C3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EE1D4-B939-42B1-A90D-F0CC7BCD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8FAEB-9846-4E92-843F-CFB6FE23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AE982-3E59-4BEA-A1A6-EB364EFB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EDE9FF-687E-4094-BDD1-2F4A65A7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44F63B-01F6-4299-B89B-2EACACFA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B42639-9747-4E77-B1E7-3BA7D478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B3278C-0651-4329-9040-AF1ED392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A29C95-4463-4417-9CBC-6742683D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FFC1AF-40D6-4F36-B26A-DDD9FCCC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B9EA4-C29F-4245-AF4C-38CBCDD5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204-4FC9-4137-A15D-F841F6A5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4670-F94B-4FC9-AC49-035E5D86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E1D21-9331-4E09-BBA7-78A22DBC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DA987-73C3-4952-A374-6490B85D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8343F-1044-4F68-9764-055D242D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58D8F-EEA2-4D4B-8AAF-504F3A29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4B3118-AB78-4A70-AADB-EC6C76D2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5E97A5-DBE5-4E9A-978A-6087E8C3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995AD-8AC1-4E97-AC53-7A896EAD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7BC2FD-C89B-4026-BA8B-242397F0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310611-A4B8-4383-9001-B21B0CD7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AFFFCA-8394-49D1-AE85-096C9840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7A90-9A76-496E-97A6-52B39FF2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78B439-C1D5-487E-B99B-FC771057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BDBCCB-B33E-45CE-9974-642C63BC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52B94F-E543-4270-AD55-002E554B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2622E3-E9F6-41A8-BA15-68025EC4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05600-8225-44B2-86BF-2CD48E95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5654E-3A4F-4ADE-833B-E2CF8CA2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B7BCA7-F2DF-4B23-97A3-2C39B1D2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F80D71-8EEE-42D7-8FB1-516F3D44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2B90CC-1C96-4E7A-AC20-D7C4C665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D79114-6C4C-4A46-89DA-12D08359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8EE1-3D4E-4AD3-8FDD-8643453F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5EB02-B888-4CF0-BF0F-8D44D91C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F5CE79-7904-4D2F-B950-7999BAEE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68CF9B-C3A6-4673-A60C-27204EAC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30A27C-A555-4A8E-BA63-3D24D890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AC1B3-671F-4C6F-8B1D-A0281747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1EB904-C59F-4B41-BD85-94293431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105C85-24DC-49B1-974A-84C59CCB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B11DA4-CD28-4BB9-8490-C6E8C87E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C4F418-D554-4169-B467-F362532A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018420-58F0-42B6-87FC-79AB6167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93E2-D5E3-436F-9FA7-80ABB6F8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08A5E5-C5DD-4D24-8097-16C06CCC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B2BB11-7002-451F-8488-B6F29A9B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26ED4-AC84-4A8B-8B54-AAB5EF55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6CCBA-D2DD-47F7-83B9-664B984E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0B07FA-08E6-419B-BBDB-95C71C03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2D20BB-BA59-432E-8747-B06FD888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D9DD37-F6C8-4D23-AD27-B96B4F5D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4653E-3513-4B73-A0BC-C91250E8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14087F-3EEC-42AD-85A6-FE0DF408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4D8455-C56A-4779-8365-33CB7736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9886-68AE-4DAF-837C-18B32E0E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17DB8-C8B7-4CF7-89B4-BE8B1E83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85E6C5-A7B3-4AB8-8BD0-B9986BCC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345A1C-4E55-47A6-8B07-59C9EB65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31264C-E708-47F3-AA7B-CD93A18F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74B2AB-43C8-49F2-B220-E854CAB2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9E258A-2C68-4F15-B723-17FA3CCA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3B6265-C1CC-47B9-B45A-D68D203A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A8321C-D5AD-4712-8B9B-984EC12C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282D19-F061-4E1E-9B93-D64B7395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E39160-CD6D-4BCF-9D81-475B423D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4562-ACF8-414A-ADD0-57421547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C642F3-D6D4-494F-8DCD-F0A8E0B8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74432F-9366-4177-AD36-7E7F90AD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443111-D00B-4A97-A0EF-378D3984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3A773-FD8E-4909-B48C-E7CBF661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431F0-3A65-47EC-935A-32E0060C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A2282-446C-4B46-A54B-CE58C8CB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A676-A0FD-488D-AEEF-A6CBF744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DC0-3A3F-4454-AD12-27810979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2393C-8710-42CC-BE7F-C4EFB98D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BC2D4-EEC9-4A49-AD3C-A60C1D17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3799-4637-4FAD-8032-79F7FE8F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12920-A793-47F6-832F-3E9E65A8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E314-5838-448C-B597-7CEE61E1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093C-CE8C-4C99-A2DB-7DF6076C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7E702-176C-4D7C-B595-7D808284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2751C-FAD1-4D8F-9EED-A80680F6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17F9D-883E-4115-9DE2-179953F4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5FEDF-CF79-4680-8CA5-E2F3E618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CE0-5AC4-4CE6-AF8D-C36F2AA4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B785-139E-4E78-86DC-F1B0DB80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B78E3-4143-4B92-AF47-A19B223A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04F16-CDEA-41E7-93A0-5C0B58E5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BC5EF-F9B2-49AA-AF36-66B1B5C9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734FC-EB36-42A7-A748-6809154B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B11C0-C20F-4635-B33C-811560C1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E44AA-366D-4549-BF55-907C28D6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42C5A-A2EC-4488-89F6-4B6EF3AB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F97D5-7DEE-4E09-8BEE-D363847C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9011C-EAF1-4969-988B-8D80E6D4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1BB-A575-4C97-A7B6-96C50785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D6824-272A-4171-AFDD-7F03116F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56CF6-9B7F-424B-B9D3-5B37F3DE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9F89D-A63E-4B83-A92B-0D3F7D00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1A02F-B870-4930-AAC0-5194E32D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C000B-27DB-4608-9FA3-4AE8EC0D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3BDD9-FD93-4BEE-B881-7463344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2CCD6-6D24-4DE6-B53F-0AAFD660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E8F5-C1C8-4C15-8CA2-7C8EC0CF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EA9F4-950C-4098-8B25-6C72613D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50164-3093-440F-BB13-20C56520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6EE-1CAD-4997-8F4C-C2B7FC0D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38B0E-F996-4CF8-9D66-FF125C00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81F5A-8973-4B7A-B5AF-EF4DF5EA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6BA4E-C6F8-4EC5-A907-86DFBA75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6D9C1-731D-4EE2-9E51-6726A478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51274-7161-4122-9748-B7B0DA17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8803E-5CBC-485D-B6A9-C6679FBB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EBDDD-3B12-4BB2-A73F-9C509C7D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4CE8-3ED5-4539-A452-692231A6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9D16A-FB5A-4327-9FAD-0E301402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EB6E3-9C4C-4C55-A245-B1979D78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D9B-B35A-4620-8B3B-27839A0D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5FEEA-E3B0-48A8-B906-BBF174A9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E8978-546B-47D7-88CF-725F9E0D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F41B9-5C3E-4095-BFE4-63FE0393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86CD4-106F-490E-AB19-00DE5342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102CE-F3D0-494D-9C7F-10780643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73FBF-21EF-43CB-B402-0892A6F2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A6069-EEFB-4B5B-91D6-D7F78D3F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BEDFC-99E6-48B1-8982-2FAB91B7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F925C-324E-4CF1-A7A6-F19F956C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D1830-CB95-4415-A2DC-03E2932A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D7B-215B-468D-A80D-5FC8D70E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70FD8-D48E-4B14-A989-DA93DF69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AF562-3B58-4F8E-BF3B-8254751F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F1C94-8878-43E9-A2F2-363F3165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FB6EE-F7F5-4E1B-85E6-27840086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AE9A9-4411-4EDF-B88A-D8C8AB34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475F2-35FB-4D9E-BC6C-E1315BA9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AE6FB-0362-4A8C-A493-EF7EA766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A4A18-0F2F-4A95-99AC-52F4BF93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769EB-282F-4AF9-9970-62A43E04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5AAC9-D458-4972-8852-CBBCE05B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4F1-734E-49CB-B800-4E709963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C5496-2BDF-456A-B67F-85F67E7F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8BAD9-7BA8-4DBF-AC83-5CC86903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CB2C1-A704-427E-B83E-C61DCF6F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A2836-BC95-4BA0-BFB1-F04B6008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9BD27-80EB-4916-ADB1-C6F51910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81DCE-8A52-4F52-A9E2-087E3D89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2AE32-D0E9-4120-BCEE-ABBE0DBF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B82AA-3970-4A2F-9392-92355975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46C23-73F3-4E2C-9256-16D7133C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69892-41C6-4CC6-8E62-C0EFC9A8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E7E3-9D61-4F36-A700-8FBEEEAD3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0E2D-BC69-454C-8703-ABA65AB9B8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4117-FBE5-4A24-B0C2-B6E130DEFF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113D-35D5-422D-9907-584398762B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6DAB-96D4-4BC1-A705-C1C8A4C862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E163-EECA-498F-B2C3-B475B485E5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AA9C-1B47-4280-ACCB-4F45657982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E021-B9BF-4EFE-9302-B7DBD3B9FA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2C05-132C-41F3-A5C8-F166DDE8D2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A2DA-9DA3-4764-B0B1-33DD8FB995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E39C-C855-4398-900C-E0272BEE73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DFDE-647D-4850-834E-F0376CE277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828E-03BD-4BCC-953C-17E5828464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957C-FA26-4C7D-A202-6F7943F721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4291-0EF9-467C-BE30-61B53C2297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36AB-A81C-402F-A9DE-5F19A7625A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AAE5-DDAA-4148-BA68-F566A7ACD8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1432-FD1B-45EF-AE39-39E4BF9A56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1842-F7C9-4563-995D-E3CE191BC2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3A88-686E-407C-AC27-9562CBA272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6D67-E81F-4E43-8440-B7083E6033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1C55-1A75-478E-A88C-DF885622B8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FBB4-716A-4B7C-B2F3-E1F787ED1A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595E-13E4-4E85-8B2D-BEDC0939B0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3B7F-96A9-4306-A23E-6C8E2B6573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CDCA-0DE5-40E5-8567-F160C52C2E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D564-73AE-48B1-9DB2-644627ED40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D0C2-64C2-4BEC-B6DA-DE2714986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0279-8917-4735-804B-CD65F3FA5E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1E60-80ED-4B4C-8FCA-18F8D10BA5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A76F-5E9E-450C-BDFF-1C18F0BF4C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0FCB-4E65-4582-87B9-D0C13B1647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B328-83F1-4FAA-B816-CA0DC2F2AF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1B85-187B-4162-8661-774655FD74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C39A-1061-40F1-AA97-2DA5F622F0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C210-5D34-4265-9D85-23AB0395FB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F094-EC1E-4BF2-8B84-9C45A7A0D6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F408-6266-40C0-9E5A-4C76C4B376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A2DB-62C5-415F-AD0F-C8AC32D7E0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34CE-0C05-4318-942B-38873FF659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138400" y="3029040"/>
            <a:ext cx="48672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409680" y="1352520"/>
            <a:ext cx="83246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299880" y="861840"/>
            <a:ext cx="854424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90520" y="923760"/>
            <a:ext cx="8562960" cy="56484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730080" y="6141960"/>
            <a:ext cx="5432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7905600" cy="60962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2"/>
          <a:stretch/>
        </p:blipFill>
        <p:spPr>
          <a:xfrm>
            <a:off x="988920" y="7142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3"/>
          <a:stretch/>
        </p:blipFill>
        <p:spPr>
          <a:xfrm>
            <a:off x="957240" y="155088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4"/>
          <a:stretch/>
        </p:blipFill>
        <p:spPr>
          <a:xfrm>
            <a:off x="957240" y="242892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5"/>
          <a:stretch/>
        </p:blipFill>
        <p:spPr>
          <a:xfrm>
            <a:off x="957240" y="32846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6"/>
          <a:stretch/>
        </p:blipFill>
        <p:spPr>
          <a:xfrm>
            <a:off x="1028880" y="414180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7"/>
          <a:stretch/>
        </p:blipFill>
        <p:spPr>
          <a:xfrm>
            <a:off x="957240" y="507060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8"/>
          <a:stretch/>
        </p:blipFill>
        <p:spPr>
          <a:xfrm>
            <a:off x="988920" y="594828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352440" y="909720"/>
            <a:ext cx="8439120" cy="57340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2"/>
          <a:stretch/>
        </p:blipFill>
        <p:spPr>
          <a:xfrm>
            <a:off x="714240" y="92880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3"/>
          <a:stretch/>
        </p:blipFill>
        <p:spPr>
          <a:xfrm>
            <a:off x="750960" y="178596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4"/>
          <a:stretch/>
        </p:blipFill>
        <p:spPr>
          <a:xfrm>
            <a:off x="714240" y="265428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5"/>
          <a:stretch/>
        </p:blipFill>
        <p:spPr>
          <a:xfrm>
            <a:off x="674640" y="485604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429760" cy="52671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2"/>
          <a:stretch/>
        </p:blipFill>
        <p:spPr>
          <a:xfrm>
            <a:off x="642960" y="108252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3"/>
          <a:stretch/>
        </p:blipFill>
        <p:spPr>
          <a:xfrm>
            <a:off x="642960" y="371484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338040" y="914400"/>
            <a:ext cx="8467920" cy="5657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2"/>
          <a:stretch/>
        </p:blipFill>
        <p:spPr>
          <a:xfrm>
            <a:off x="642960" y="90792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3"/>
          <a:stretch/>
        </p:blipFill>
        <p:spPr>
          <a:xfrm>
            <a:off x="1000080" y="5684760"/>
            <a:ext cx="542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314280" y="928800"/>
            <a:ext cx="8515440" cy="57150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2"/>
          <a:stretch/>
        </p:blipFill>
        <p:spPr>
          <a:xfrm>
            <a:off x="1857240" y="260352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4500720" y="39290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4"/>
          <a:stretch/>
        </p:blipFill>
        <p:spPr>
          <a:xfrm>
            <a:off x="1857240" y="435780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5"/>
          <a:stretch/>
        </p:blipFill>
        <p:spPr>
          <a:xfrm>
            <a:off x="1000080" y="610380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458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14:07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